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BF7-E4F5-4604-BFEA-4247F74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CB0-767E-4D6D-B37E-1E86DB2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472-F3D7-45F7-8C37-CA153940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18B-590D-4274-A3F0-AFFF5E56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2E8B-F0AD-41BA-96D6-BCB4B6E9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5B82-EA45-4B9F-91FD-4C5A74C0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EF08-83F8-4321-BBD2-7C67007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8EB-5E5F-44C2-9ED3-7A473D8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EE89-F2A4-4F9C-B206-28C221C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6F58-3ECF-49BB-9084-CA52F7D1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4FF-66B6-45C1-9A46-EFC2CDE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551-311F-495C-B24F-D668B0F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A09-05C0-4E47-BBBC-0F1626F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3BA-6276-4B55-8DA7-788476E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1127-4876-40EE-88F0-C879EE9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D50-1799-4DD3-A9B9-A5000239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B8C7-5BE2-4178-9D2D-D7AA08BE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9C9-8D34-4147-86F0-089615C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10F-18CB-4451-9B76-05252E7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205-9777-4E71-B734-06DAD4B8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8BE-C938-41B1-B6DF-D282EAA7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F47-1E3D-4420-B6ED-50AB7D4E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FD7-AA3B-42C9-91D9-16E041D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554-6374-4138-A549-2CB813D9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E87-2B5B-49CE-84CF-EBBBBF366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E7D-12A3-4D7E-87FE-10552A0B0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enatoseixas@terra.com.br" TargetMode="External"/><Relationship Id="rId2" Type="http://schemas.openxmlformats.org/officeDocument/2006/relationships/hyperlink" Target="mailto:renatoseixas@terra.com.br" TargetMode="External"/><Relationship Id="rId3" Type="http://schemas.openxmlformats.org/officeDocument/2006/relationships/hyperlink" Target="mailto:renatoseixas@terra.com.br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URSO DE DIREITO BANCÁRI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f. Renato Seix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pt-BR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renatoseixas</a:t>
            </a:r>
            <a:r>
              <a:rPr b="0" lang="pt-BR" sz="3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@terra.com.</a:t>
            </a:r>
            <a:r>
              <a:rPr b="0" lang="pt-BR" sz="3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l. 0-xx-11-3266-277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 QUESTÃO DO TABELAMENTO DO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faz sentido econômico tabelar juros em economia livre e globalizad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ibir a capitalização dos juros não tem o menor sentido em economia livre e globalizad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 juros capitalizados não se desvinculam da taxa de juro vigente no mercad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URITIZAÇÃO POR MEIO DE AFETAÇÃO PATRIMON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. 9º e ss. Lei 9514/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. 425, NCC (?), sem prejudicar terc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ções gerais sobre afetação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idade do negócio jurídico de afetação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onibilidade relativa da afetação patrimonial em face de tercei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URITIZAÇÃO POR MEIO DE CAUÇÃO DE DIREIT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ens securitizados continuam no patrimônio do deve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der de controle sobre os bens securitizados é transferido a uma SPE, a um escrow agent ou a um trus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dministrador dos bens securitizados procede conforme estabelecido em contrato especí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AÇÃO ESTRUTURADA DE LEASING INTERNACIONAL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39720" y="914400"/>
            <a:ext cx="8046720" cy="5248080"/>
            <a:chOff x="639720" y="914400"/>
            <a:chExt cx="8046720" cy="5248080"/>
          </a:xfrm>
        </p:grpSpPr>
        <p:sp>
          <p:nvSpPr>
            <p:cNvPr id="369" name=""/>
            <p:cNvSpPr/>
            <p:nvPr/>
          </p:nvSpPr>
          <p:spPr>
            <a:xfrm>
              <a:off x="731160" y="914400"/>
              <a:ext cx="2862000" cy="11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SPE 1/PFISCAL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FE tem 100% das ações (equity) = US$ 28 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oma empréstimo do Banco/PFiscal2 = US$ 42 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Adquire bens do F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em 100% das ações da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Arrenda bens para SPE2/P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Segregação patrimonial FE/SPE 2/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63080" y="914400"/>
              <a:ext cx="384048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BRICANTE ESTRANGEIRO -FE - Estabelecido no País “A”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Dono de 100% das ações da SPE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Vende bens para SPE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Parcelas do preço x parcelas do leas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1160" y="2926080"/>
              <a:ext cx="3291840" cy="10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SPE 2/P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rust tem 100% das ações (equity)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Arrendatária dos be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Arrenda bens para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Meio p/ descaracterizar vínculo entre FE/SPE1 e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Separação patrimonial entre FE/SPE2/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1160" y="4846320"/>
              <a:ext cx="4206240" cy="128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PE-BRA – sediada no BRAS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SPE1 tem 100% das ações da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Arrendatária dos bens da SP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em recebíveis decorrentes dos bens arrendados de SP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Usa recebíveis p/ pagar parcelas do leas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ributação de IR p/ SPE2 = 15% sobre a recei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Despesas do leasing são dedutíveis do IRPJ devido no Bras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Capital da SPE1 a ser repatriado será tributável se houver ganho de capit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3080" y="2011680"/>
              <a:ext cx="4023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BANCO NO PARAÍSO 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Empresta US$ 42 M p/ SPE1 p/ compra de be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Empresta $ para Trust subscrever ações na SPE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Empréstimos sem tributação no Bras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Obtém garantias da operação (*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agto dos empréstimos feitos com receita do leas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63080" y="3657600"/>
              <a:ext cx="3840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HARITY TRUST - P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Recebe empréstimo do Banco/P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Tem 100% das ações da SPE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- Dividendos serão usados p/ pagar Banco/PFiscal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48680" y="1463040"/>
              <a:ext cx="746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748680" y="1097280"/>
              <a:ext cx="73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737000" y="2103120"/>
              <a:ext cx="0" cy="60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68520" y="2103120"/>
              <a:ext cx="0" cy="59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943600" y="1737360"/>
              <a:ext cx="0" cy="20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0" y="1737360"/>
              <a:ext cx="0" cy="20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943600" y="3200400"/>
              <a:ext cx="0" cy="27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0" y="3200400"/>
              <a:ext cx="0" cy="274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114440" y="381384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14440" y="39891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37000" y="4023360"/>
              <a:ext cx="0" cy="73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68520" y="4023360"/>
              <a:ext cx="0" cy="73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20280" y="4754880"/>
              <a:ext cx="3469680" cy="140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(*) Pacote de garanti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1) Escrow Accounts para depósito: a) dos recebíveis de SPE-Bra; b) parcelas do leasing de SPE-Bra/SPE2; c) parcelas do leasing de SPE2/SPE1; d) parcelas do preço SPE1/FE; e) parcelas do empréstimo Trust/Banco; f) parcelas do empréstimo SPE1/Banco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2) Penhor: a) ações SPE1 e SPE2; b) ações SPE-Bra; c) recebíveis; d) bens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3) Hipoteca sobre imóvel da SPE-B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840120" y="2103120"/>
              <a:ext cx="640080" cy="36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360" y="2194560"/>
              <a:ext cx="1014120" cy="54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9720" y="4572000"/>
              <a:ext cx="8001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flipH="1">
            <a:off x="3733920" y="990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4038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657600" y="14475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038480" y="335232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286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114800" y="25142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057400" y="21333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2880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57600" y="1295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OUTROS CASOS PRÁTIC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issão de debêntures da CED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issão de debêntures da CELE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issão de debêntures da ABR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ptação da CVRD com lastro em recebíveis de expor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ptação da Aracruz com lastro em recebíveis de expor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ptação da Votorantim com lastro em recebíveis de expor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OUTROS CASOS PRÁTIC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ptação do BB com lastro nos dekassegu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curitização de recebíveis com agências do HSBC via fundo de investimento imobili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curitização de recebíveis imobiliários do Brades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curitização de recebíveis imobiliários da C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curitização de recebíveis imobiliários da CAS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ÍTULOS JURÍDICOS HÍBRIDOS DE CAPITAL E DÍVI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ções ge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ítulos jurídicos creditícios e de investimento de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ítulos jurídicos de criação de dív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egócios jurídicos complexos – noções ge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egócios jurídicos híbridos de capital e dívida (ou crédit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ÍTULOS JURÍDICOS HÍBRIDOS DE CAPITAL E DÍVI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enclatura usu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rumentos de capital (ou de investiment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rumentos de dívida (ou de crédit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rumentos híbridos de capital e dív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rumentos de crédito subordi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rumentos de dívida subordi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ÍTULOS JURÍDICOS HÍBRIDOS DE CAPITAL E DÍVI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sciplina leg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art. 425, N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dêbentures – arts. 53 e ss., lei 6404/76 (art. 57 e 5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gras gerais do sistema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incípio da liberdade contratual em direito pri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ffcc66"/>
                </a:solidFill>
                <a:uFillTx/>
                <a:latin typeface="Arial"/>
              </a:rPr>
              <a:t>MÓDULO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UTURAS CONTRATUAIS PARA PROTEÇÃO PATRIMONIAL E SANEAMENTO EMPRESA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ESTRUTURAS CONTRATUAIS DE PROTEÇÃO PATRIMON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ções gerais sobre afetação de b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trições legais à livre afetação de b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ções gerais de “patrimônio de afetaçã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ecessidade de segregação de riscos dive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iscos empresariais e riscos famili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oria da desconsideração da personalidade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 QUESTÃO DO TABELAMENTO DO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xa de juro tende ao equilíbrio por caus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oferta/demanda global de empréstim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ível geral de preços dos bens de consumo e dos bens de produçã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taxa geral de rendimento sobre invest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ítica fiscal pode distorcer gravemente a taxa de juro no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ESTRUTURAS CONTRATUAIS DE SANEAMENTO EMPRESAR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resa em estado de insolvência não decla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ções administrativas e financeiras para aumento do pas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ções contábeis para aumento do pas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essidade de alongamento do perfil da dívida global e de sua redução/renegoci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ESTRUTURAS CONTRATUAIS DE PROTEÇÃO PATRIMON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ócio potencialmente rentável e com bom fluxo de cai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antação de administração profis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e do fluxo de caixa por terceiro neu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e de capital ou financiamento para a reestruturação financeira e societária da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057400" y="1828800"/>
            <a:ext cx="2514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ive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4267080"/>
            <a:ext cx="4495680" cy="175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iedade distribuidora em situ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ré-fali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743200" y="32767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33526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981080"/>
            <a:ext cx="2057400" cy="327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peraçã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isão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-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86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533520"/>
            <a:ext cx="7010640" cy="6094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 1 DE SANEAMENTO 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304920"/>
            <a:ext cx="6476760" cy="4267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transfere ativos p/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fica com o pas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presta serviços à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 seus recebíveis são caucionados aos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recebe recursos do crédito subordinado da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5105520"/>
            <a:ext cx="3047760" cy="1447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SPE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da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ucionados a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86400" y="5181480"/>
            <a:ext cx="3048120" cy="12193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1752480"/>
            <a:ext cx="1752480" cy="21337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mút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657600" y="4724280"/>
            <a:ext cx="45720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933600" y="1065960"/>
            <a:ext cx="14475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4724280"/>
            <a:ext cx="609480" cy="5335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5943600"/>
            <a:ext cx="129564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01000" y="4114800"/>
            <a:ext cx="360" cy="7621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009560" y="4419720"/>
            <a:ext cx="76212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04920" y="304920"/>
            <a:ext cx="6476760" cy="426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recebe ativos de SPE 1 e fica c/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toma serviços da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toma empréstimo n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recebíveis/ativos são caucionados aos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dá crédito subordinado com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105520"/>
            <a:ext cx="3047760" cy="1447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os c/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caucion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os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5181480"/>
            <a:ext cx="3048120" cy="12193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1752480"/>
            <a:ext cx="1752480" cy="21337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mút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/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657600" y="4724280"/>
            <a:ext cx="45720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6933600" y="1065960"/>
            <a:ext cx="14475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924680" y="4038480"/>
            <a:ext cx="360" cy="8384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5791320"/>
            <a:ext cx="121932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04920" y="304920"/>
            <a:ext cx="5867280" cy="42670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centraliza recebíveis pagos por cliente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 1 e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faz pagamentos por prio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paga serviços de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paga credores de SPE 1 e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paga mútuo a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Paga crédito subordinado de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5105520"/>
            <a:ext cx="3047760" cy="1447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1 recebe preç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5257800"/>
            <a:ext cx="3124080" cy="12193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e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SPE 2 recebem pag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86600" y="3200400"/>
            <a:ext cx="175248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2 r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b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657600" y="4724280"/>
            <a:ext cx="45720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724280"/>
            <a:ext cx="30492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762120"/>
            <a:ext cx="175248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2 r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b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324480" y="2285280"/>
            <a:ext cx="609840" cy="15228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2743200"/>
            <a:ext cx="762120" cy="15228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828800" y="1676520"/>
            <a:ext cx="25146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ive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3352680"/>
            <a:ext cx="411480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iedade 1 prestador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erviços de criação em situ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ré-fali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66688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1523880"/>
            <a:ext cx="1981080" cy="2590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açã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restad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 serviços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533520"/>
            <a:ext cx="6858000" cy="6094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 2 DE SANEAMENTO 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647600" y="2666880"/>
            <a:ext cx="1447560" cy="11430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5486400"/>
            <a:ext cx="3047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ientes da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438280" y="4952160"/>
            <a:ext cx="3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724280"/>
            <a:ext cx="23623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dá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48320" y="4648320"/>
            <a:ext cx="914400" cy="761760"/>
          </a:xfrm>
          <a:prstGeom prst="line">
            <a:avLst/>
          </a:prstGeom>
          <a:noFill/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57200" y="533520"/>
            <a:ext cx="6172200" cy="3733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saída de equipe de criação p/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fica com o ativo (clientes) e passivo (dívi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toma serviços prestados por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 seus recebíveis são caucionados aos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recebe crédito subordinado da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5105520"/>
            <a:ext cx="3352680" cy="12952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da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ucionados a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57800" y="5105520"/>
            <a:ext cx="3048120" cy="11430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10280" y="914400"/>
            <a:ext cx="1752840" cy="2133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d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à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934320" y="3352680"/>
            <a:ext cx="838080" cy="6098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3880" y="4343400"/>
            <a:ext cx="36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4343400"/>
            <a:ext cx="36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715000"/>
            <a:ext cx="76212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695360" y="3276720"/>
            <a:ext cx="685800" cy="14475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33520" y="304920"/>
            <a:ext cx="6095880" cy="4190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recebe de equipe de criação da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só tem ativos (capital intelectua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presta serviços à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toma recursos n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seus recebíveis são caucionados a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dá crédito subordinado à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7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5181480"/>
            <a:ext cx="304776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Soc.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da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ucionados a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5105520"/>
            <a:ext cx="3047760" cy="10666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86600" y="9907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útuo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886200" y="4648320"/>
            <a:ext cx="457200" cy="6858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857280" y="3352680"/>
            <a:ext cx="114300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8153280" y="3429000"/>
            <a:ext cx="152640" cy="129528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5715000"/>
            <a:ext cx="114300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04920" y="304920"/>
            <a:ext cx="5790960" cy="42670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centraliza recebíveis pagos por clientes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1 e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faz pagamentos por prio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paga serviços de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paga credores da Soc.1 e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paga mútuo a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Paga crédito subordinado de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5105520"/>
            <a:ext cx="3047760" cy="1447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recebe preç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5257800"/>
            <a:ext cx="3124080" cy="12193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e SP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SPE 2 recebem pag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86600" y="3200400"/>
            <a:ext cx="175248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2 r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b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657600" y="4724280"/>
            <a:ext cx="45720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4724280"/>
            <a:ext cx="30492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762120"/>
            <a:ext cx="175248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rece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324480" y="2133000"/>
            <a:ext cx="609840" cy="2286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2666880"/>
            <a:ext cx="990360" cy="2286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dor aplica R$ 100,00 em CDB de 30 dias, à taxa de 2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,00     – valor apli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,00)    – juro devido ao invest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0,025) – FG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0,00)   – recolhimento de depósi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compuls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7,075     – valor que o banco pode emprestar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828800" y="1676520"/>
            <a:ext cx="25146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ive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3048120"/>
            <a:ext cx="411480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iedade construtora em situ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ré-fali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1676520"/>
            <a:ext cx="1981080" cy="2590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açã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/ constr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ré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33520"/>
            <a:ext cx="6858000" cy="6094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 3 DE SANEAMENTO 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0720" y="5486400"/>
            <a:ext cx="3047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quirentes de imó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438280" y="4952160"/>
            <a:ext cx="3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2438280"/>
            <a:ext cx="3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23560" y="3809880"/>
            <a:ext cx="121932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181480"/>
            <a:ext cx="2971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contrata 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 constru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4190400" y="4724280"/>
            <a:ext cx="68580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562720" y="4419720"/>
            <a:ext cx="45720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533520"/>
            <a:ext cx="6172200" cy="3733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 Construtora (S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transfere empreendimento p/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transfere recebíveis dos adquirentes p/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fica com as dívidas 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 presta serviços à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recebe crédito subordinado da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3520" y="5105520"/>
            <a:ext cx="3352680" cy="12952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da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ucionados a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5105520"/>
            <a:ext cx="3048120" cy="11430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914400"/>
            <a:ext cx="1752840" cy="2133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d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à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934320" y="3352680"/>
            <a:ext cx="838080" cy="6098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4343400"/>
            <a:ext cx="36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343400"/>
            <a:ext cx="360" cy="4572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715000"/>
            <a:ext cx="76212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95360" y="3276720"/>
            <a:ext cx="685800" cy="14475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533520" y="304920"/>
            <a:ext cx="6095880" cy="4190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assume empreendimento da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cessionária dos recebíveis pagos por adqu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toma serviços da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toma recursos no banco 2 e via C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seus recebíveis são caucionados ao 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dá crédito subordinado à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7) recursos centralizados em 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5181480"/>
            <a:ext cx="304776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bíveis da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ucionados a cr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5410080"/>
            <a:ext cx="3048120" cy="106704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PS com 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lecti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62920" y="22860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útuo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3886200" y="4648320"/>
            <a:ext cx="457200" cy="6858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5715000"/>
            <a:ext cx="114300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315200" y="29718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Cap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a C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29400" y="2514600"/>
            <a:ext cx="45720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6705720" y="3199680"/>
            <a:ext cx="380880" cy="60948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15000" y="4572000"/>
            <a:ext cx="76320" cy="5335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72400" y="4724280"/>
            <a:ext cx="36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4572000"/>
            <a:ext cx="36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04920" y="304920"/>
            <a:ext cx="5790960" cy="42670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1) centraliza recebíveis pagos por clientes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2) faz pagamentos por prio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3) paga serviços de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) paga credores da SC e 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5) paga mútuo ao banco 2 e CRI a inves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6) Paga crédito subordinado de SP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5105520"/>
            <a:ext cx="3047760" cy="1447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C recebe preç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5257800"/>
            <a:ext cx="3124080" cy="12193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edores de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SPE recebem pag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0" y="2057400"/>
            <a:ext cx="1752480" cy="11430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2 r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b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657600" y="4724280"/>
            <a:ext cx="457200" cy="38124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4724280"/>
            <a:ext cx="30492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04920"/>
            <a:ext cx="1752480" cy="13716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 rece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bordi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3733920"/>
            <a:ext cx="1752480" cy="10666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gto. C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8520" y="914400"/>
            <a:ext cx="457200" cy="763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2438280"/>
            <a:ext cx="30456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3809880"/>
            <a:ext cx="304560" cy="2286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609480" y="1523880"/>
            <a:ext cx="41148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iedade/pessoas cu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trimônio precisa ser prote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Soc.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3429000"/>
            <a:ext cx="4114800" cy="3124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ação de SPE Trust (SPE-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/ se tornar proprietária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trimônio a ser prote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-T é SCP que tem co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ócios ostensivos A e B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oc. 1 como sócia ocu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dministrará os bens co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ontrato art. 803, N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533520"/>
            <a:ext cx="6858000" cy="60948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 4 – PROTEÇÃO PATRIMON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57800" y="1676520"/>
            <a:ext cx="327672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E-T e Soc. 1 celeb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o art. 803, NC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) propriedade dos b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/ SPE-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) definição dos critér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administr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) afetação dos b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562720" y="4952880"/>
            <a:ext cx="3047760" cy="152424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o de opçã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ra, por Soc. 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s cotas de A e B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CP e na SPE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43400" y="2894760"/>
            <a:ext cx="609480" cy="304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800600" y="5486400"/>
            <a:ext cx="533520" cy="3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2819520"/>
            <a:ext cx="360" cy="30456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CAPITAI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ERAÇÕES COM DERIV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ivativ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ão contratos celebrados no âmbito do mercado financeiro e têm por obje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 valo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ros bens ou outros contratos, chamados 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ivos-objeto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quai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deriv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epende, decorre do valor do contrato deriva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.: um contrato futuro de soja é um derivativo porque tem por por objeto o valor da soja em determinado momento no futu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CAPITAI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ERAÇÕES COM DERIV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ância dos contratos derivativ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globalização econômic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riscos exagerados de oscilação de preç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necessidade de segurança para investidores, produtores e demais agentes econôm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instrumentos de financiamento de produ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CAPITAI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GMENTAÇÃO DO MERCADO DE DERIV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rcado a termo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forwar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– operações de balcã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(ver the counte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, ou seja, não padron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rcado de futuros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futur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– operações bursáteis padronizadas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xchang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rcado de op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rcado d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w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RTICIPANTES DO MERCADO DE DERIV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s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 entidade civil sem fins lucrativos que organiza, regula e fiscaliza as operações realizadas em seu ambiente, sendo sempre contraparte nos contratos</a:t>
            </a: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rretor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 é a sociedade que atua no mercado em seu próprio nome, mas de acordo com ordens recebidas de seu comit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learing house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 entidade ligada à bolsa e incumbida de custodias, compensar e liquidar as oper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RTICIPANTES DO MERCADO DE DERIV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dger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operam no mercado com o objetivo de eliminar ou diminuir o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iscos de oscilação de valo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dos ativos-objeto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que estão suje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peculadore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operam no mercado com o objetivo de assumir os riscos de oscilação de valor dos ativos-objeto para obterem lucr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bitradore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– atuam no mercado sem assumir riscos e com o objetivo de aproveitar as eventuais distorções de preço dos ativos-objeto para obter luc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dor aplica R$ 100,00 em CDB de 30 dias, à taxa de 2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,00     – valor apli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,00)    – juro devido ao invest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0,025) – FG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0,00)   – recolhimento de depósi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compuls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7,075     – valor que o banco pode emprestar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RACTERÍSTICAS DO MERCADO DE BALCÃ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idade prática é a de fixar o preço futuro do ativo-objeto, podendo ou não ocorrer a entrega material desse b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agentes procuram e negociam diretamente com sua contrapa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a termo não são negociados em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partes negocia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s aspectos da operação, pois o contrato não é padron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RACTERÍSTICAS DO MERCADO DE BALCÃ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negociações privadas podem apresentar distorções de preço em determinado mo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garantias devem ser negociadas caso a caso (risco de crédito é ma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estão sujeitos a margem inicial nem a ajustes diá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m sempre as operações são registr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quidação da operação só ocorre no seu vencimento (normalmente, por diferença de preç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RACTERÍSTICAS DO MERCADO DE FUTU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nalidade prática é a de fixar o preço futuro do ativo-ob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operações ocorrem em ambiente bursátil, de acordo com regras conhecidas por todos os agentes e sempre com intermediação de corre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bolsa é sempre a contraparte em qualquer contrato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operações são feitas em pregões públicos de que participam os agentes interess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RACTERÍSTICAS DO MERCADO DE FUTU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preços dos ativos-objeto são definidos de acordo com o princípio da oferta e da demanda (elimina-se ou diminui-se distorções de preç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contratos são totalmente padronizados pela bolsa, que define seu objeto, quantidade mínima, vencimento, forma de liquidação e garantias a serem prestadas pelas par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os os contratos são registrados pela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RACTERÍSTICAS DO MERCADO DE FUTU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quer das partes pode sair do contrato antes de seu vencimento realizando outro contrato em posição inver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s as operações são realizadas com as garantias previstas pela bol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STEMA DE GARANT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 instituído, controlado e fiscalizado pela bol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inalidade é a de assegurar a normal liquidação das oper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ção das garantias é feita pela própria bolsa (em geral, extrajudicialm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lsa define quais são os bens que podem ser dados em garantia (bens de alta liquide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STEMA DE GARANT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arantias contratuais exigidas pela bol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rgem de garanti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é o valor diário, definido pela bolsa em função da variação histórica do valor do ativo-objeto, que ambos os contratantes têm que depositar na bolsa para assegurar a normal liquidação da op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juste diári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: é o valor em dinheiro exigido pela bolsa de cada contratante para recompor a mergem de garantia previs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STEMA DE GARANTIAS INSTITUCIONAI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o especial de liquidez para compensação – recursos depositados na bolsa para suprir necessidades transitórias de liquidez dos agentes de compensaç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o de liquidação de operações – recursos depositados na bolsa para assegurar a liquidação das oper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o de garantia de investidores – recursos depositados na bolsa para assegurar os investidores de eventual inadimplemento das corre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RDEM DE UTILIZAÇÃO DAS GARANT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gem in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justes diários de recomposição da mar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os de garantia da bol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ônio da corretora envolvida na oper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ônio da bol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 E SEUS ATIVOS-OBJET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taxas de juros – 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índice BOVES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so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ca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boi go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açúcar cris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algod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 futuro de mi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co tem custos operacionais mínimos de 1,7% a.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co empresta R$ 80,00 à taxa de 2,11 a.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,00    – valor do mútuo feito pelo b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0,098) – dedução do I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9,90    - valor recebido pelo mutuá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FUTUROS E SEUS ATIVOS-OBJET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ato futuro de dó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ato futuro de ou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ato futuro de C-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ERAÇÕES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gulamentação básica: Res. 2149 do BC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ndência à padronização mundial (padrão ISDA –International Securities Dealers Assoc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strumento muito utilizado no mercado de balcão, mas também ocorre em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strumento de proteção contra riscos de oscilação de preços dos ativos-objeto (ativos ou passiv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peração de balcão é quase sempre realizada com intermediação de uma IF banc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CEIT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ato d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é o que possibilita às part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rocarem entre si apenas os resultados financei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correntes da aplicação de taxas ou índices sobre seus respectivos ativos ou passivos utilizados como referência nessa contrataçã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O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part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ão troca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re si os ativos ou passivos-objeto mencionados na op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da parte tem um ativo ou um passivo relacionado a uma taxa ou índice (p. ex., alguém tem uma dívida em dólar; outro alguém tem uma aplicação financeira indexada em CD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partes querem se proteger contra a oscilação de preços de seus respectivos ativos ou passivos relacionados a taxa ou í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O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partes desejam trocar entre s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enas o resultado financei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eus respectivos ativos ou passivos vinculados a taxa ou í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decorrência d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 parte que tem seu ativo ou passivo relacionado a uma taxa ou índic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oca sua taxa ou índice pela taxa ou índice a que se relaciona o ativo ou passivo da outra pa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da parte passa a ter o risco de oscilação de preços de ativos ou passivos relacionados a taxa ou índic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 outra pa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O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produzir efeitos fiscais, os contratos d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recisam ser registrados em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clearing hous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por ex. CETI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operações d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ermitem grande flexibilidade, podendo ser classificadas 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simples; e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strutur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há necessidade de depósitos de garantia na operação d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orque somente na data de vencimento d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que se saberá qual das partes é credora da out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O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perações 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m bolsa são padronizadas, reguladas e fiscalizadas pela bol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perações 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de balcão ou de bolsa) podem ser realizadas com garantia ou sem garan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ERAÇÕES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NA BM&amp;F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juros pré-fix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C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dólar comercial x Re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xa de dólar flutuante x Re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GP-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ro da BM&amp;FTaxa SE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BF (Taxa Financeira Básica) do BC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PC-FG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” tem dívida em dólar e teme que a taxa de câmbio aumente muito. Gostaria que sua dívida estivesse relacionada a taxa de juros interna, como a do CD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” tem aplicação financeira relacionada à taxa de juros do CDI. Acha que essa taxa de juros ficará baixa em decorrência de modificações no mercado. Gostaria que sua aplicação estivesse relacionada à taxa do dólar, porque acredita que o dólar subirá mu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” procura seu banco e propõe a realização de u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wap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tal maneira que  a dívida em dólar de “A” passe a ser relacionada à variação da taxa de CDI. Esse banco sabe que “B” gostaria de ter sua aplicação financeira relacionada ao dólar e não mais ao CDI. Desse modo, o banco intermediará a operação, realizando dois contratos 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o seg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ário tem que pagar em 30 dias o valor de R$ 81,69 (R$ 80,00 + juros de 2,1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ário recebeu apenas R$ 79,90 e pagará R$ 81,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xa de juro efetiva do empréstimo foi de 2,24% a.m. (79,90 + 2,24% = 81,6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ário paga PIS/COFINS (2,6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xa de juro efetiva = 4,8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no contrato com “A”, o banco pagará a “A” a diferença entre as taxas do CDI e do dólar, se o dólar subir mais que o CDI (como se, na verdade, a dívida de “A” estivesse relacionada ao CDI) e, por sua vez, “A” pagará ao banco a diferença entre as taxas do CDI e do dólar, se o CDI subir mais que o dólar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no contrato com “B”, o banco pagará a “B” a diferença entre as taxas do CDI e do dólar, se o dólar subir mais que o CDI (como se, na verdade, a aplicação de “B” estivesse relacionada ao dólar) e, por sua vez, “B” pagará ao banco a diferença entre as taxas do CDI e do dólar, se o CDI subir mais que o dól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os os contratos (banco com “A” e banco com “B”) serão liquidados apenas pela diferença financeira decorrente da aplicação das taxas de CDI e de dólar, respectivamente, à dívida de “A” e à aplicação financeira de “B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ESTRUTURAD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ados os dados do exemplo anterior, suponha-se que a dívida de “A” seja de US$ 1.000.000. Numa única operação 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ap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le quer trocar o risco de variação da taxa do dólar como seg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té US$ 600.000, quer atrelar sua dívida à variação da taxa de CDI verificada entre a data de contratação d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+0) e certa data anterior ao vencimento d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+n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RCADO DE DERIVATIVO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EMPLO DE OPERAÇÃO DE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SWAP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ESTRUTURAD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) para os outros US$ 400.000, quer atrelar sua dívida à variação do Ibovespa verificada entre D+n e a data de vencimento d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(D+f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) em D+n as partes apuram o resultado financeiro intermediário d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definem qual delas é credora da outra naquele mo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) em D+f as partes apuram o resultado financeiro final d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wap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definem qual delas é credora da outra naquele momento e, se for o caso, fazem as compensações necessá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o com simulação 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co paga ao investid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,00 –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6,88 – taxa de juro 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6,88 – desembolso total do b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XEMPLO DE INTERFERÊNCIA DA POLÍTICA FISCAL NA TAXA DE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co recebe do mutuá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,00 –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9,83 – juro à taxa anual de 30,49% +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PIS/COF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9,83 – pagamento total pelo mutuá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*) custo dos tributos é um dos componentes da taxa de juro vigente no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F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STEMA FINANCEIRO NACIONAL E SUA ESTRUTURA GER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RGANIZAÇÃ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ramento pela CF/88 – art. 192 e pela lei 4595/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iplina da Ordem Econômica e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turação do SFH deve ser feita por lei complem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turação 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romover o desenvolvimento equilibrado do país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ervir aos interesses so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EMISSAS DO RACIOCÍNI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ente econômico com liberdade de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anismos institucionais eficientes para coibir situações de monopólio ou oligopó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amismo do comércio ex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mentos eficientes de controle monetá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BJETO DA LEI COMPLEMENTAR DE ORGANIZAÇÃ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ção da organização, funcionamento e atribuições do Banc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ção da organização, funcionamento e atribuições das instituições financeiras de qualquer espécie, inclusive de cooperativas de crédito (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rização para funcionamento e fiscalização das instituições financeiras oficiais e p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rização para funcionamento das empresas de seguro, resseguro, previdência e capital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BJETO DA LEI COMPLEMENTAR DE ORGANIZAÇÃ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ação, pelas IF, dos instrumentos do mercado financ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ções de participação do capital estrangeiro nas entidades integrantes do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ficações mínimas e impedimentos para os administradores de IF e do Banco 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BJETO DA LEI COMPLEMENTAR DE ORGANIZAÇÃ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ação de fundo de seguro para garantir depósitos, créditos e aplicações até certo valor (sem participação da Uni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ções à transferência de poupança de região carente para outra não ca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ção da taxa real de juros a 12% a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ATUREZA JURÍDICA DA LEI 4595/64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mente é lei ordiná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ós a CF/88, passou a 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atu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tóri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lei compleme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ípio da recepção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za de lei complementar é discuti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restringe-se apenas às matérias enumeradas no art. 192 da CF/88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abrange todas as matérias tratadas na lei 4595/6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STRUTURA DO SFN – ART. 192/CF E LEIS 4595/64, 4728/65 e 6385/76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dades integrantes do SFN (art. 1º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nselho Monetário Nacional (CM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co Central do Brasil (BC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issão de Valores Mobiliários (CV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anco do Brasil (B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anco  Nacional  de  Desenvolvimento Econômico e Social (BN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ituições financeiras públicas e p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SUSEP e SPC–Secretaria de Previdência Compleme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UBSISTEMAS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FN tem dois subsistemas principa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subsistema normativo;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subsistema de intermedi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UBSISTEMA NORMATIV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gram o subsistema normativ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  CMN – órgão de cúpula do S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  BCB – autarquia com poder regulató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CVM – autarquia com poder regulatório no mercado de títulos e valores mobiliá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  BB – poder regulatório em matérias especí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BNDES–poder regulatório em matérias  especí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F – poder regulatório em matérias especí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* SUSEP e S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UBSISTEMA DE INTERMEDIAÇÃO DO SF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m o subsistema de intermedi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 as instituições financeiras bancá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 as instituições financeiras não bancá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 as entidades integrantes do SBPE – Sistema         Brasileiro de Poupança e Emprésti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 instituições auxili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 instituições não financ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UBSISTEMA DE INTERMEDIAÇÃO DO SFN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STITUIÇÕES FINANCEIRAS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ncos 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ncos Múltipl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ão os que têm pelo menos duas das seguintes carteiras: (a) banco comercial; (b) banco de investimento e desenvolvimento; (c) sociedade de crédito, financiamento e investimento; e (d) sociedade de crédito imobiliári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ixas Econômic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Federal e Estadua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A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STITUIÇÕES FINANCEIRAS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ão IF constituídas – obrigatoriamente – sob a forma de sociedades anônimas aber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ão autorizadas a captar e receber depósitos a 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m expandir a base monetária por meio da criação de moeda escri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zam operações de crédito de curto pr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CESSO DE FORMAÇÃO DA TAXA DE JURO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LUSÕES IMPORTANT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massa de emprestadores e de tomadores de empréstimo define a oferta e a demanda global de empréstimos no mercado a uma dada taxa de ju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o crescer a taxa de juro, aumentará a oferta de empréstimos e, por outro lado, diminuirá a demanda por empréstim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ECANISMO DE EXPANSÃO DA BASE MONETÁRIA PELAS IF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bimento de depósito a 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lhimento de compulsório para o BCB (quando for o ca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médio diário de saldo remanescente de depósitos a 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zação de emprésti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o depósito a vista feito pelo tomador do emprésti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ASSIFICAÇÃO DA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STITUIÇÕES FINANCEIRAS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ncos de vare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ncos de negócios (ataca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vate Bank – atende pessoas físicas de altíssima r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rsonal Bank – atende pessoas físicas de alta renda, pequenas e médias empre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rporate Bank – atende pessoas jurídicas de grande 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UBSISTEMA DE INTERMEDIAÇÃO DO SFN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NÃO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ancos de invest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ancos de desenvolv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ciedades de crédito, financiamento e investimento (são as financeir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ciedades de arrendamento merca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ciedades de crédito imobiliário e Cias. hipotecá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operativa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sociações de poupança e emprés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MENTOS CARACTERIZADORES DAS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NÃO BANCÁRI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m ser constituídas sob a forma de sociedades anônimas abertas, cooperativas ou associ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estão autorizadas a captar e receber depósitos a 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podem expandir a base monetária por meio da criação de moeda escri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izam operações de crédito de médio e longo prazo (exceção feita às cooperativas de crédito e associações de poupança e empréstim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STITUIÇÕES NÃO FINANCEIR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estão sujeitas à disciplina e fiscalização do BCB ou da CV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ão instituições financeiras, embora atuem de modo importante no mercado finance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presas de fac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presas administradoras de cartõe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d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presas de Previdência Compleme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CEITO DE INSTITUIÇÃO FINANCEI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é entidade que exerce profissionalmente a atividade de intermediação financeira, de custódia de valores de terceiros, de emissão, distribuição, negociação, intermediação ou administração de valores mobiliários (art. 17, L. 4595/64 e art. 1º, L. 7492/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ção de um Sistema Financ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MENTOS ESSENCIAIS DO CONCEITO DE IF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idade pública ou priv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ividade profissional principal ou acessó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eta da poupanç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ão de recursos próprios/de terceir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ediação profissional do crédito e de valores mobiliá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ódia de valores de tercei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NCIPAIS SISTEMAS BANCÁRI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co universal e banco especi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lomerados finance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sidade de segmentação da atividade bancária e das demais atividades das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ficação das atividades é necessária para atender às exigências do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s as espécies de bancos realizam atividades acessórias ou complement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ância da sinergia entre as entidades de um conglomerado finance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TIVIDADE DE INTERMEDIAÇÃO FINANCEI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ância da atividade de intermediação financei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ção da intermediação financeira nos ban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ividade bancária tradi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ividade bancária modern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TIVIDADE BANCÁRIA TRADICIONA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ito tradicional de b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ito tradicional de atividade bancá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ércio de dinheiro, de crédito e intermediação financei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go 119 do Código Comer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ividade profissional do b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CESSO DE FORMAÇÃO DA TAXA DE JURO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LUSÕES IMPORTANT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o diminuir a taxa de juro, declinará a oferta de empréstimos e, por outro lado, aumentará a demanda de emprést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movimentos de oferta/demanda de empréstimos tendem ao equilíbri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a situação de equilíbrio, ofertantes e demandantes de empréstimos têm a mesma Preferência Temporal (expectativa de rendimento), que é a Taxa de Juro do merc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VISÃO ATUAL DE ATIVIDADE BANCÁ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idade e sofisticação da vida social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ção da atividade bancária tradi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ndimento das novas necessidades sociais e econô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ficação das atividades bancárias e das instituições financ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EMPLOS DE ATIVIDADES BANCÁR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eta de depósitos e de val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ssão de crédito em sentido amp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mentos em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mentos espe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ontos de títulos 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ção de garant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bimento, guarda e custódia de val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EMPLOS DE ATIVIDADES BANCÁR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stão de investi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oria financeira e análise de investi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uturação de negó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ção de serviços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ção de serviços de administração de fluxo de cai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EMPLOS DE ATIVIDADES BANCÁR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ediação, colocação e subscrição de valores mobiliários no mercado financ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ção de cofres de 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amento de client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ência financeira interbancá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ços eletrô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aformas B2B e B2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OÇÕES SOBRE AS OPERAÇÕES BANCÁR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ócio jurídico bancário e operações bancá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ções passivas (captação de recursos e recebimento de valo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ções ativas (concessão de créditos e financiament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ções principais e acessó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PERAÇÕES BANCÁRIAS PASS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erações bancárias passiv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ão aquelas por meio das quais o banco capta os recursos da poupança popular ou recebe bens para custodiar, com a obrigação de restituir esses recursos ou bens para os deposit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anco passa a ser o sujeito passivo da relação obrigacional decorrente do depós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PERAÇÕES BANCÁRIAS 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rações bancárias ativ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ão aquelas por meio das quais o banco, mediante remuneração, concede crédito ou entrega recursos próprios ou de terceiros para pessoas que precisem deles (do crédito ou dos recursos) para atividades de consumo, de produção ou de investimento e que assumem, perante o banco, a obrigação de restituir os recursos utilizados com os juros e demais encargos pactu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banco passa a ser o sujeito ativo da relação obrigacional decorrente desses contr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CESSIDADE DE ARTICULAÇÃO DAS OPERAÇÕES BANCÁRIAS PASSIVAS COM AS 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ência da intermediação finance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os captados precisam ser ofertados e entregues aos agentes econômicos consumidores, produtores ou invest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bimento dos créditos pagos por consumidores, produtores ou investidores garante que o banco possa restituir os recursos que recebeu dos poupadores seus cl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s operacionais de segurança e equilíbrio a serem observados pelos bancos (normas do BCB e Convenção Internacional da Basilé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CESSIDADE DE ARTICULAÇÃO DAS OPERAÇÕES BANCÁRIAS PASSIVAS COM AS 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ência da intermediação finance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os captados precisam ser ofertados e entregues aos agentes econômicos consumidores, produtores ou invest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bimento dos créditos pagos por consumidores, produtores ou investidores garante que o banco possa restituir os recursos que recebeu dos poupadores seus cl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s operacionais de segurança e equilíbrio a serem observados pelos bancos (normas do BCB e Convenção Internacional da Basilé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GRAMENTO DAS OPERAÇÕES BANCÁR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ções constitucionais (princípio geral da função social dos direit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islação especial (L. 4595/64, L. 7492/86, L. 6385/76, L. 4728/64, L. 9613/98, L 6024/7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islação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s editadas pelo BACEN, CMN e, quando for o caso, pela C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CESSO DE FORMAÇÃO DA TAXA DE JURO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LUSÕES IMPORTANT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tomador de empréstimo usa a moeda emprestada pa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quirir bens de consum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quirir bens de produçã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fazer invest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tomador do empréstimo usa a moeda emprestada para ter rendimentos superiores à taxa de juro do emprésti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FLEXÕES SOBRE A NATUREZA JURÍDICA DOS CONTRATOS BANCÁRI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ntuada intervenção estatal na disciplina dos contratos bancá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écies de operações bancá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logia das operações bancárias (definida essencialmente nas normas regulamenta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ição de garantias bancárias/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amismo do mercado finance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as figuras contratuais atíp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TUREZA JURÍDICA DOS CONTRATOS BANCÁRIOS - CONCLUSÕ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o intervencionismo estatal na regulamentação contra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tos bancários e regime jurídico dos contratos público (inadequaç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tos bancários e regime jurídico dos contratos priv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ção social relevante dos contratos bancá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TUREZA JURÍDICA DOS CONTRATOS BANCÁRIOS - CONCLUSÕ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za privada e comercial dos contratos bancá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to bancário 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geral padron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geral, contrato de ades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ípi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nomia da vontade contratual é limitada tanto para o banco como para o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ÓDIGO DE DEFESA DO CONSUMI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LEXÕES SOBRE A APLICAÇÃO DO CDC ÀS ATIVIDADES BANCÁR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TIVIDADES BANCÁRIAS E DIREIT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Âmbito do Direito do Consumidor – lei de ordem pública (art. 1º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ções jurídicas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a relação jurídica de consu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consumidor ou sujeito equiparado a consumido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bem de consum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fornece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EITOS DE CONSUMIDOR NO CDC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acterização do consumidor (arts. 2º caput; 2º § ún.; 17 e 2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umidor é sujeito de direito (pessoa física, pessoa jurídica ou ente despersonaliza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umidor adquirente ou usuário final de bem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EITOS DE CONSUMIDOR NO CDC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idor individual ou coletivo interveniente em relação alheia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idor vítima de acidente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idor exposto às práticas existentes no mercad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o da multiplicidade de concei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EITO DE BEM DE CONSUMO NO CDC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s de consumo: produtos e serviços (art. 3º, §§ 1º e 2º, do CD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s de consumo x insu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ços bancários, financeiros, de crédito e securitários como bens de consu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réstimo de dinheiro x conceito de bem de consu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e da inaplicabilidade do CDC às atividades bancá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EITO DE FORNECEDOR NO CDC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ito de fornecedor – art. 3º ca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plitude do conceito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ições financeiras como fornecedoras de produtos e serviços no mercad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TIVIDADES BANCÁRIAS E PROTEÇÃ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ções massificadas e padron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ação dos contratos de ade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ilidade prática de os bancos tratarem de modo diferente clientes consumidores e não consumi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ão do art. 29 do CDC (práticas bancárias existentes no mercado de consu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CESSO DE FORMAÇÃO DA TAXA DE JURO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CLUSÕES IMPORTANT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xa de juro no mercado é um dos indicadores par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 custo dos bens de consumo e dos bens de produçã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 rentabilidade dos investiment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 nível geral de preços no mercado como um 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TIVIDADES BANCÁRIAS E PROTEÇÃ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mplos de aplicação do CDC nas atividades bancárias e securitári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tratos de seguro com segurados pessoas juríd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tratos de leasing com segurados pessoas juríd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tratos de depósito em poup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TIVIDADES BANCÁRIAS E PROTEÇÃ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perações financeiras realizadas com meios eletrônicos de pag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perações financeiras realizadas por meios de telecomunicação (especialmente por telefo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perações de financiamento em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estação de serviços bancá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elebração de contratos eletrô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TIVIDADES BANCÁRIAS E PROTEÇÃ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dência doutriná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dência jurispruden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ciativa de regulamentação pelo Banco Central do Bras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uência de entidades de classe e de proteção dos consumi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dência do Ministéri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ANCO DE DADOS E PROTEÇÃO DA INTIMIDADE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ção de banco de dados pelas empre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ância dos bancos de d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údo dos bancos de d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mento de 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rcialização de dados dos cl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ição de clientes a ações comerciais e publicitá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ANCO DE DADOS E PROTEÇÃO DA INTIMIDADE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ção constitucional do consumidor (CF/88, art. 5º, X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ão invioláveis a intimidade, a vida privada (...) das pessoas, assegurado o direito de indenização pelo dano material ou moral decorrente de sua violação;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ANCO DE DADOS E PROTEÇÃO DA INTIMIDADE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ção do consumidor pelo CDC (art. 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nsumidor tem direito de acesso aos seus dados inseridos em banco de dados e sobre as fontes desses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xatidão e veracidade dos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ados negativos (prazo de até 5 an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municação escrita ao consumidor sobre a inserção de seus dados em banco de dados sem sua prévia solici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ANCO DE DADOS E PROTEÇÃO DA INTIMIDADE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ção do consumidor pelo CDC (art. 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ito do consumidor de exigir correção de seus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cos de dados têm natureza de serviç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sência de regra restritiva de divulgação dos dados d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ulnerabilidade do consumidor em face da utilização de seus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FERTA DE CRÉDITO E ENDIVIDAMENT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édito e sociedade de consu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ansão do crédito como instrumento de desenvolvimento econômico e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ancos de dados de consumidores X Sigilo comercial e bancário (art. 18, Ccoml. e art. 38 da L. 4595/6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fertas massificadas de crédito a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corrência entre os fornecedores e riscos assum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FERTA DE CRÉDITO E ENDIVIDAMENT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erta de crédito x capacidade patrimonial d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erta de crédito agressiva ou perigosa para 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ta de transparência nas relações de consumo envolvendo outorga de crédito (art. 52 do CD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nômeno do endividamento exces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rosidade excessiva ou desvantagem exagerada para 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FERTA DE CRÉDITO E ENDIVIDAMENT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oluções possí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ulação do negócio juríd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) Teoria da les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DC, arts. 4º caput e incisos I, III, IV e V; 6º, II, III e IV; 39, IV e V; 51, IV e seu § 1º, I a III e NCC, arts. 156 e 15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 QUESTÃO DO TABELAMENTO DO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governo é o maior tomador de empréstimos no merc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orme os riscos envolvidos, o governo precisa oferecer ao emprestador taxa de juros bem alta para conseguir tomar o empréstim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taxa de juro dos empréstimos tomados pelo governo são a base para a taxa de juro do mercado (taxa básica de juro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FERTA DE CRÉDITO E ENDIVIDAMENTO DO CONSUMIDO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) Revisão judicial do cont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DC, art. 6º V; ou Teoria da Imprevisão e NCC, arts. 156 e 157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) Anulação por erro ou d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CC, arts. 138/144 (erro) ou 145/150 (do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) Risco criado pelo fornecedor do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DC, arts. 12 e 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) Prodig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CC, arts. 4º, IV e 166,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GURANÇA DOS MEIOS ELETRÔNICOS DE PAGAMENT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a inflacionária e necessidade de eficiência e rapidez na circulação monetá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ância dos meios de telecomun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são dos negócios em ambiente vir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ios eletrônicos de pag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essa de eficiência e segurança dos meios eletrônicos de pag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GURANÇA DOS MEIOS ELETRÔNICOS DE PAGAMENT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ção, projeto e operação, pelo fornecedor, dos instrumentos necessários ao uso de meios eletrônicos de pagamen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ança do consumidor na eficiência e segurança oferecida pelo fornec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abilidade do fornecedor pela segurança dos meios eletrônicos de pag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co criado pelo fornec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ulnerabilidade do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GURANÇA DOS MEIOS ELETRÔNICOS DE PAGAMENT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abilidade do fornecedor (civil e criminal) 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falhas operacionais no uso de meios eletrônicos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fraudes envolvendo e prejudicando o consumid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danos materiais e morais causados ao consumid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exposição do consumidor a riscos pessoais ou patrimon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RATOS BANCÁRIOS E ONEROSIDADE EXCESSIV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oria da imprevi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oria da lesão – NCC 156 e 15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são contratual – NCC, 421 e 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ra do art. 6º, V, do CD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ÁUSULAS CONTRATUAIS ABUS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áusula mand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que de letra de câmbio para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ssão de nota promissória em br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ção de extratos ao contrato de abertura de crédito para constituir título executivo extrajudic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ição de multa e despesas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PLICAÇÃO DA DOUTRINA DA BASE DO NEGÓCIO JURÍDICO ÀS RELAÇÕES REGULADAS PELO CDC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motivos da contratação e os efeitos do cont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ção de motivos e conversão deles em disposições contrat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ferta publicitária e a doutrina da base do negócio juríd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“Códigos de Ética” de instituições bancá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ância do CDC como fundamento de aplicação da doutrina da base do negócio juríd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ARANTIAS AUTÔNOM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CIPLINA DAS GARANTIAS AUTÔNOMAS EM CONTRASTE COM OS DIREITOS REAIS NO NOVO CÓDIGO CIVI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ARANTIAS AUTÔNOMA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PANORAMA GER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tenção do sistema geral dos Direitos Reais (DR)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dade e sua função social x propriedade individualista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dade como modelo de DR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ção de DR derivados da propriedade: (i) DR sobre bens alheios; (ii) DR de garantia; (iii) DR de aquisição de bens alheios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ARANTIAS AUTÔNOMA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PANORAMA GER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as figuras de DR: (i) aquisição de propriedade de terra por ocupação coletiva; (ii) DR de superfície; (iii) propriedade fiduciária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ervadorismo da função econômica da propriedade: (i) poder de controle do proprietário; (ii) a evolução social da propriedade sem controle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dequação do sistema de DR de garantia às novas necessidades econômico-sociais (omissão do NC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 QUESTÃO DO TABELAMENTO DO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o é o tomador de menor risco, porque tem o poder de emitir moeda para pagar suas dívida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quer tomador de empréstimo que não o governo tem que pagar a taxa básica de juro, mais acréscimo conforme o risco envolvido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re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ARANTIAS AUTÔNOMA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PANORAMA GER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s incorpóreos como objeto de DR (omissão do NCC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muitas matérias foi deixada para lei especial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gerais: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falta de sistematização – propriedade fiduciária em garantia deslocada inadequadamente como propriedade fiduciári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dogmática conservadora: garantias reais continuam sendo relações jurídicas acessóri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omissão da categoria de garantias autônomas e abstratas (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rantias à primeira solicitaçã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              prática negocial internacion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          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d bonds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nder guarante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i)       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bo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 guarantee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v)        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row accoun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)           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yment guaant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yment bo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-guarant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)        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ention guarant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i)     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demand guarant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falta de utilização de novos modelos de garantia: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 bens de alta liquidez e facilidade de execução extrajudici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 propriedade fiduciária e propriedade de afetação (p. ex., sociedades de propósito específico (SPE, ou SOE ou SP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i) margens de garantia com ativos cotados em bolsas (p. ex., mercado de derivativos, mercado a termo, mercado de op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v) formas de segregação patrimonial em geral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e do caso específico de penhor de direitos e de títulos de crédito (arts. 1451 a 1460, NCC):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modernização da disciplina em relação ao CC de 1916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uficiência da disciplina da matéria no NCC (estariam abrangidos os títulos e valores mobiliários?)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burocratização para a formalização das garantias (arts. 1452, 1453, 1458, NCC)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contraste com o sistema de garantias previsto na legislação da Cédula de Crédito Bancário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) conservadorismo da exigência de que o bem empenhado seja “coisa” (corpórea: título, documento – arts. 1451, 1452, § ún., 1458, NCC);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) desconsideração dos títulos escriturais: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              inadequação da exigência de tradição (arts. 1226, 1452, § ún. e 1458, NC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REITOS REAIS DE GARANT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           desatenção à necessidade social e econômica de substituir a tradição por outros atos de publicidade (p.ex., registro nacional de debêntures, registro de ônus sobre ações; registros de negócios e garantias em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ing house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ransferências eletrônicas de bens e valores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i)        volume crescente de utilização de títulos escriturais em negócios civis e comerciais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) burocracia executiva (art. 1455, NCC) e dificuldade de recebimento do crédito garantido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E DE CASOS PRÁTIC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UXOGRAMA COM ESTRUTURAÇÃO GERAL PARA SEGURITIZAÇÃO DE RECEBÍ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CONSTITUIÇÃO DE GARANTIAS AUTÔNOM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752480"/>
            <a:ext cx="28195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mpre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581280"/>
            <a:ext cx="388620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segreg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trimon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 emissão de títulos lastre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m seus recebíve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715000"/>
            <a:ext cx="3429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lientes dev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581280"/>
            <a:ext cx="243864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onta de co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s recebívei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scrow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5638680"/>
            <a:ext cx="19814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g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de bancá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1905120"/>
            <a:ext cx="2438640" cy="990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ag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80880"/>
            <a:ext cx="49528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Investidores/financi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(títulos lastreados em recebíve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181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6095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48520" y="5105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00800" y="2971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43040" y="289548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40972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05320" y="23623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16002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BID BOND OU TENDER GUARANTE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752480"/>
            <a:ext cx="28958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MPRE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(quer garant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elebração do contra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11480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(obrigação de celeb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 contrato e d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tra-garantia ao se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ban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4038480"/>
            <a:ext cx="3505320" cy="2210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brasil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presta garantia a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estrangeiro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cebe contra-garant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 concorr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1752480"/>
            <a:ext cx="327636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estrang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resta garantia 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vor do empreende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3124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209680" y="3048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48006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629400" y="32000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429000" y="23623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 QUESTÃO DO TABELAMENTO DO JUR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elar a taxa de juro impede o governo de ter mobilidade para captar/ofertar empréstimos no mercad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a mundial está cada vez mais globalizada e integrada em diversos nívei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uais tentativas de tabelamento da taxa de juro dá oportunidade para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bitragem nos mercad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PERFORMANCE BON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752480"/>
            <a:ext cx="32767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MPRE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(quer garant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umprimento do contra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411480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(obrigação de cump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 contrato e d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tra-garantia ao se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ban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4114800"/>
            <a:ext cx="3886200" cy="243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brasil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presta garantia a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estrangeiro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cebe contra-garant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 contrat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1752480"/>
            <a:ext cx="327636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estrang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resta garantia 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vor do empreende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124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09680" y="3048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4800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629400" y="32000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809520" y="2362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REPAYMENT GUARANTE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1752480"/>
            <a:ext cx="327672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MPRE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(faz adiantamento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preço do contrato e qu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garantia de devolu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57200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(recebe adian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do preço e obriga-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 devolvê-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343400"/>
            <a:ext cx="3886200" cy="22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brasil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presta garantia a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estrangeiro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cebe contra-garant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 contrat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1752480"/>
            <a:ext cx="327636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estrang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resta garantia 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vor do empreende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0968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553080" y="3124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095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RETENTION GUARANTE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752480"/>
            <a:ext cx="327672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EMPRE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(faz retenção de parte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preço do contrato e 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que garantir a devolu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457200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N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(quer receber a parte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reço retida e q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garant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4724280"/>
            <a:ext cx="358128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anco brasil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presta garantia em fav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 contrat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1752480"/>
            <a:ext cx="3733920" cy="1905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estrang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resta garantia 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vor do banco brasileiro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r contra-garantia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preende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20968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3733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0532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FLUXOGRAMA DE OPERAÇÃO SIMPLES DE FACTORING INTERNACIONAL</a:t>
            </a:r>
            <a:endParaRPr b="0" lang="en-US" sz="1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1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celebração da operação comercial internacional entre exportador e importad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2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realização de embarque do exportador para o importad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3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remessa dos documentos de embarque pelo exportador ao Banco brasileiro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4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remessa dos documentos de embarque pelo Banco brasileiro ao Banco estrangeir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5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remessa dos documentos de embarque pelo Banco estrangeiro para o importador, para aceite des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6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devolução pelo importador dos documentos de embarque aceit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7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remessa, pelo Banco estrangeiro à Factoring House, dos documentos de embarque aceitos e garantidos pelo Banco estrangeir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8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pagamento pela Factoring House ao Banco brasileiro e simultânea cobrança do crédito da Factoring House em face do importad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Narrow"/>
              </a:rPr>
              <a:t>(9)</a:t>
            </a:r>
            <a:r>
              <a:rPr b="0" lang="pt-BR" sz="1300" spc="-1" strike="noStrike">
                <a:solidFill>
                  <a:srgbClr val="ffffff"/>
                </a:solidFill>
                <a:latin typeface="Arial Narrow"/>
              </a:rPr>
              <a:t> pagamento do crédito pelo Banco brasileiro ao exportado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09480" y="990720"/>
            <a:ext cx="7848360" cy="3200400"/>
            <a:chOff x="609480" y="990720"/>
            <a:chExt cx="7848360" cy="3200400"/>
          </a:xfrm>
        </p:grpSpPr>
        <p:sp>
          <p:nvSpPr>
            <p:cNvPr id="321" name=""/>
            <p:cNvSpPr/>
            <p:nvPr/>
          </p:nvSpPr>
          <p:spPr>
            <a:xfrm>
              <a:off x="726480" y="990720"/>
              <a:ext cx="2342880" cy="4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MPORTAD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60880" y="990720"/>
              <a:ext cx="3279960" cy="4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ANCO ESTRANGEIR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3758760"/>
              <a:ext cx="2342880" cy="4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PORTAD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63560" y="2547720"/>
              <a:ext cx="4920120" cy="4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CTORING HOUSE / FORFAITING HOUS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77880" y="3758760"/>
              <a:ext cx="3279960" cy="4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ANCO NO BRAS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627440" y="1509480"/>
              <a:ext cx="1522800" cy="9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675080" y="1509120"/>
              <a:ext cx="1054080" cy="9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1960" y="1509480"/>
              <a:ext cx="0" cy="19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253520" y="1509480"/>
              <a:ext cx="0" cy="19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537720" y="3758760"/>
              <a:ext cx="117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5080" y="1065600"/>
              <a:ext cx="97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579440" y="1509480"/>
              <a:ext cx="0" cy="19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70920" y="2980080"/>
              <a:ext cx="561960" cy="60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642840" y="1277640"/>
              <a:ext cx="93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2800" y="3931560"/>
              <a:ext cx="117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828800" y="609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762120"/>
            <a:ext cx="8305920" cy="34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1)            (2)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            (8)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(7)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     (4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RASIL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2286000"/>
          <a:ext cx="8305920" cy="9907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838080" y="15238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371600" y="16002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153280" y="15238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352320" y="1066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12193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257440" y="1447920"/>
            <a:ext cx="7621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0080" y="30481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352320" y="38098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2514240" y="1523520"/>
            <a:ext cx="6094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160020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MÓDULO 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ÇÕES COM SECURITIZAÇÃO DE RECEBÍVEIS E A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CIPLINA GERA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ções gerais de recebí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ítulos de crédito e títulos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regação de recebíveis e ativos patrimon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nalidades da segregação dos recebíveis/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fetação dos recebíveis/ativos para garantia de obrig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sciplina geral do penhor de direitos e de títulos de crédito –arts. 755/788 e 789/795, N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rt. 425, N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CURITIZAÇÃO DE ATIV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uritização de ativos e de recebí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trimônio – noções ge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trimônio empresa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tivos com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ssivos com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pital intele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lor intangível da empresa (good wi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STRUTURA BÁSICA DE UMA OPERAÇÃO DE SECURITIZAÇÃO DE 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) Empresa tem créditos exigíveis de seus clientes (recebíveis) ou outro ativo disponí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) Criação de mecanismos de securitiz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ção de SPE com a finalidade exclusiva de se tornar cessionária dos recebí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ática de negócio jurídico para criar patrimônio de afet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regação dos recebíveis/ativos para finalidade de garant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STRUTURA BÁSICA DE UMA OPERAÇÃO DE SECURITIZAÇÃO DE ATIV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) Vinculação dos recebíveis/ativos para certo fim (afetação patrimon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4) Eliminação ou restrição do poder de controle do devedor sobre os recebíveis/ativos securit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5) Administração dos recebíveis/ativos por terceiro neutro (SPE, escrow agent ou truste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URITIZAÇÃO POR MEIO DE SP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PE  é cessionária, a título gratuito ou oneroso) dos recebíveis/ativos securit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essão onerosa e pagamento do preço de cess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PE capta empréstimo emitindo título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PE garante o pagamento do empréstimo com caução aos recebíveis/ativos pré-sele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ngibilidade dos recebíveis inadimp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0:52:03Z</dcterms:created>
  <dc:creator>.</dc:creator>
  <dc:description/>
  <dc:language>en-US</dc:language>
  <cp:lastModifiedBy>.</cp:lastModifiedBy>
  <dcterms:modified xsi:type="dcterms:W3CDTF">2004-05-21T01:01:51Z</dcterms:modified>
  <cp:revision>1</cp:revision>
  <dc:subject/>
  <dc:title>CURSO DE DIREITO BANCÁRIO</dc:title>
</cp:coreProperties>
</file>